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D340-3E10-44AD-9253-88744590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4783-0CFF-4AB2-B4E1-3E37EA8C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D9D7-021B-4E81-9105-1C7BAB2B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3A42-71C5-4726-969B-73732B50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71D4-936F-4B77-B305-28E1B68D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511B-3D1D-4618-B7FD-06DCA076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E512-420C-40C1-A168-7A2868EA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4139-57DA-46C9-AE0F-BCBDAEB6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853B-B39E-408B-A82B-85AFDA99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FE15-8C47-451A-B048-5A0DFCE8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3EA-714E-43F9-9899-071BCD88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B106-D41D-4E2F-BC50-E5D4BD89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7DCD-B02C-4BFC-9CF6-18111069F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hyperlink" Target="http://www.cip-medien.com/" TargetMode="External"/><Relationship Id="rId4" Type="http://schemas.openxmlformats.org/officeDocument/2006/relationships/hyperlink" Target="mailto:cipmedien@aol.co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609480"/>
            <a:ext cx="5486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tscheidungsbaum zur Stellung einer ICD-10-Diagnose bei substanzbezogenem Abhängigkeits- oder Mißbrauchssyndrom laut VDS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17400" y="27288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0440" y="1940040"/>
            <a:ext cx="412200" cy="21564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23960" y="2162160"/>
          <a:ext cx="2485800" cy="423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2162160"/>
                    <a:ext cx="248580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601560" y="1279440"/>
            <a:ext cx="592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: Liegt ein substanzbezogenes Abhängigkeitssyndrom vor (F1x.2)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7640" y="5324400"/>
            <a:ext cx="209556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Überprüfen Sie das Vorliegen eines schädlichen Substanzgebrauchs anhand von Seite 40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9280" y="6703920"/>
            <a:ext cx="248580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gen diese Symptome durchgehend seit mindestens einem Monat oder wiederholt in einer Periode von mindestens einem Jahr vo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8800" y="7601040"/>
            <a:ext cx="2603520" cy="702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egt ein aktueller Konsum oder ein starker Wunsch nach der Substanz vor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in eigenes Verlangen des Patienten ist zur Diagnose notwendig. Das schließt z.B. Patienten mit Opiatentzug nach notwendigen Behandlungen au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78360" y="7780320"/>
            <a:ext cx="2436840" cy="337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iegt Abhängigkeit von verschiedenen psychotropen Substanzen vo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22400" y="8456760"/>
            <a:ext cx="1487520" cy="58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F19.2°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Abhängigkeitssyndron durch multiplen Substanzgebrau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60760" y="6626160"/>
            <a:ext cx="148752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1x.2*°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Abhängigkeitssyndrom psychotrope Substanz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5080" y="5562720"/>
            <a:ext cx="122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961640" y="6200640"/>
            <a:ext cx="32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48" idx="2"/>
            <a:endCxn id="49" idx="0"/>
          </p:cNvCxnSpPr>
          <p:nvPr/>
        </p:nvCxnSpPr>
        <p:spPr>
          <a:xfrm flipH="1">
            <a:off x="1960560" y="7162920"/>
            <a:ext cx="1800" cy="43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3"/>
            <a:endCxn id="50" idx="1"/>
          </p:cNvCxnSpPr>
          <p:nvPr/>
        </p:nvCxnSpPr>
        <p:spPr>
          <a:xfrm flipV="1">
            <a:off x="3262320" y="7948800"/>
            <a:ext cx="71640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0" idx="0"/>
            <a:endCxn id="52" idx="2"/>
          </p:cNvCxnSpPr>
          <p:nvPr/>
        </p:nvCxnSpPr>
        <p:spPr>
          <a:xfrm flipV="1">
            <a:off x="5196600" y="7085160"/>
            <a:ext cx="8280" cy="69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0" idx="2"/>
            <a:endCxn id="51" idx="3"/>
          </p:cNvCxnSpPr>
          <p:nvPr/>
        </p:nvCxnSpPr>
        <p:spPr>
          <a:xfrm rot="5400000">
            <a:off x="4438440" y="7989120"/>
            <a:ext cx="629640" cy="88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197320" y="75661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05240" y="81234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62320" y="77421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65240" y="71690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65240" y="62006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5080" y="53481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38680" y="1724040"/>
            <a:ext cx="2867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* Verschlüsseln Sie mit der dritten Stelle die                                Substanzgruppe, die die jeweilige Störung verursacht. (vgl. VDS14/2)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0 Störung durch Alkohol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1 Störung durch Opioide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2 Störung durch Canabinoide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3 Störung durch Sedativa oder Hypnotika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4 Störung durch Kokain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5 Störung durch sonstige Stimulantien einschl. Koffein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6 Störung durch Halluzinogene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7 Störung durch Tabak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8 Störung durch flüchtige Lösungsmittel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9 Störung durch multiplen Substanzgebrauch und Konsum sonstiger psychotroper Substanz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43360" y="3666960"/>
            <a:ext cx="286056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° Verschlüsseln sie mit der fünften Stelle die gegenwärtige Abstinenz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.20 gegenwärtig abstinent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.21 gegenwärtig abstinent, aber in beschützter Umgebung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.22 gegenwärtig Teilnahme an ärztlich überwachtem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Ersatzdrogenprogramm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.23 gegenwärtig abstinent, aber in Behandlung mit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aversiven oder hemmenden Medikamenten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.24 gegenwärtiger Substanzgebrauch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.25 ständiger Substanzgebrauch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.26 episodischer Substanzgebrau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9760" y="693432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581200" y="738360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81200" y="7383600"/>
            <a:ext cx="113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719520" y="5562720"/>
            <a:ext cx="0" cy="182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9760" y="67197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93800" y="73836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680" y="8342280"/>
            <a:ext cx="2517840" cy="580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Copyright: CIP-Medien Verlag Münc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cip-medien.com</a:t>
            </a: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de-DE" sz="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cipmedien@aol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Autoren: S. Holzer und S. Sul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017400" y="22536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73440" y="1427040"/>
            <a:ext cx="412200" cy="21564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69840" y="1647720"/>
            <a:ext cx="213372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onnten Sie im VDS-Befund Mißbrauch psychotroper Substanzen nachweisen?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VDS14/1, sowie 2 -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36880" y="21225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7960" y="2685960"/>
            <a:ext cx="2517840" cy="580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folgt Substanzkonsum gegenüber der jeweiligen soziokulturellen Norm in überhöhtem Maß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der zu unpassenden Gelegenheiten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(VDS14/3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2800" y="3809880"/>
            <a:ext cx="2647800" cy="824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iegen klare Hinweise auf eine eindeutig alkoholbedingte körperliche oder psychische Schädigung vor?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Negative soziale Folgen, eine akute Intoxikation oder ein „Hangover“ reichen nicht aus, um diesen Punkt anzunehmen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7" idx="2"/>
            <a:endCxn id="79" idx="0"/>
          </p:cNvCxnSpPr>
          <p:nvPr/>
        </p:nvCxnSpPr>
        <p:spPr>
          <a:xfrm>
            <a:off x="2036520" y="2112840"/>
            <a:ext cx="108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9" idx="2"/>
            <a:endCxn id="80" idx="0"/>
          </p:cNvCxnSpPr>
          <p:nvPr/>
        </p:nvCxnSpPr>
        <p:spPr>
          <a:xfrm>
            <a:off x="2036520" y="3273480"/>
            <a:ext cx="108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2036880" y="32734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2"/>
          </p:cNvCxnSpPr>
          <p:nvPr/>
        </p:nvCxnSpPr>
        <p:spPr>
          <a:xfrm>
            <a:off x="2036520" y="4641840"/>
            <a:ext cx="108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2036880" y="46418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97320" y="76248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2800" y="5286240"/>
            <a:ext cx="264780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d das schädigende Konsumverhalten von anderen kritisiert und hat auch häufig unterschiedliche negative soziale Folg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38560" y="5286240"/>
            <a:ext cx="213372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nn ein Abhängigkeitssyndrom ausgeschlossen werden?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gl. Seite 3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6276960"/>
            <a:ext cx="3095640" cy="45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egt dieses Konsummuster durchgehend seit mindestens einem Monat oder wiederholt in einer Periode von mindestens einem Jahr vo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65200" y="7145280"/>
            <a:ext cx="1487520" cy="58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F1x.1*</a:t>
            </a:r>
            <a:br>
              <a:rPr sz="8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schädlicher Gebrauch von psychotropen Substanz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60760" y="8221680"/>
            <a:ext cx="148752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19.1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ltipler schädlicher Substanzgebrau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87" idx="3"/>
            <a:endCxn id="88" idx="1"/>
          </p:cNvCxnSpPr>
          <p:nvPr/>
        </p:nvCxnSpPr>
        <p:spPr>
          <a:xfrm>
            <a:off x="3360240" y="5519520"/>
            <a:ext cx="778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3360600" y="53053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88" idx="2"/>
            <a:endCxn id="89" idx="0"/>
          </p:cNvCxnSpPr>
          <p:nvPr/>
        </p:nvCxnSpPr>
        <p:spPr>
          <a:xfrm>
            <a:off x="5204880" y="5751360"/>
            <a:ext cx="1080" cy="526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5205240" y="57513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89" idx="2"/>
          </p:cNvCxnSpPr>
          <p:nvPr/>
        </p:nvCxnSpPr>
        <p:spPr>
          <a:xfrm flipH="1">
            <a:off x="5196960" y="6742080"/>
            <a:ext cx="8640" cy="526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197320" y="67420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05120" y="72374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100" idx="2"/>
            <a:endCxn id="91" idx="0"/>
          </p:cNvCxnSpPr>
          <p:nvPr/>
        </p:nvCxnSpPr>
        <p:spPr>
          <a:xfrm>
            <a:off x="5197320" y="7620120"/>
            <a:ext cx="8640" cy="59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185120" y="687240"/>
            <a:ext cx="448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: Liegt ein schädlicher Gebrauch von Alkohol (Mißbrauch) vor (F10.1)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78360" y="7277040"/>
            <a:ext cx="2436840" cy="337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iegt schädlicher Gebrauch  von verschiedenen psychotropen Substanzen vo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100" idx="1"/>
            <a:endCxn id="90" idx="3"/>
          </p:cNvCxnSpPr>
          <p:nvPr/>
        </p:nvCxnSpPr>
        <p:spPr>
          <a:xfrm flipH="1" flipV="1">
            <a:off x="2962080" y="7445160"/>
            <a:ext cx="101664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838680" y="2286000"/>
            <a:ext cx="2867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* Verschlüsseln Sie mit der dritten Stelle die                                Substanzgruppe, die die jeweilige Störung verursacht. (vgl. VDS14/2)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0 Störung durch Alkohol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1 Störung durch Opioide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2 Störung durch Canabinoide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3 Störung durch Sedativa oder Hypnotika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4 Störung durch Kokain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5 Störung durch sonstige Stimulantien einschl. Koffein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6 Störung durch Halluzinogene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7 Störung durch Tabak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8 Störung durch flüchtige Lösungsmittel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19 Störung durch multiplen Substanzgebrauch und Konsum sonstiger psychotroper Substanz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3T18:44:14Z</dcterms:created>
  <dc:creator>stefan holzer</dc:creator>
  <dc:description/>
  <dc:language>en-US</dc:language>
  <cp:lastModifiedBy>Dr. Sulz</cp:lastModifiedBy>
  <dcterms:modified xsi:type="dcterms:W3CDTF">2006-02-12T06:39:57Z</dcterms:modified>
  <cp:revision>14</cp:revision>
  <dc:subject/>
  <dc:title>PowerPoint-Präsentation</dc:title>
</cp:coreProperties>
</file>